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6E-227A-45E7-BCCF-07E9F7FA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486-DD88-471D-9C1B-AA93AA8F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02D-207B-407D-B579-1EA3EB6D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AA7-E22C-471E-9631-916F453F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868-3A02-4325-A741-9B7EEDD9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7A2-76A7-4880-99F1-61226099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9E8-4CD5-4359-89C1-93E1B95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97B-ECCA-421D-84B4-5735BD71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DCE-3FA7-4093-804D-6C20C1C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EEC-1B62-4C7F-9675-55ECF93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CB8-BB01-433B-B6D5-343E065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B5C-1296-4A6B-9DFF-CA47D6D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41A-A77F-4E29-B30E-ED11BE14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 Clase 7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0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: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continuamos el repaso del año pas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el map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790720"/>
            <a:ext cx="7696080" cy="39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1828440" y="4648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5257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962160" y="5715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6019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4114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876560" y="42667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6095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638680" y="6324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51814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76920" y="5333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5181480"/>
            <a:ext cx="3808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510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54864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90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086600" y="4419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724280" y="6324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914400"/>
          <a:ext cx="6857640" cy="2590920"/>
        </p:xfrm>
        <a:graphic>
          <a:graphicData uri="http://schemas.openxmlformats.org/drawingml/2006/table">
            <a:tbl>
              <a:tblPr/>
              <a:tblGrid>
                <a:gridCol w="1192680"/>
                <a:gridCol w="1789200"/>
                <a:gridCol w="2041920"/>
                <a:gridCol w="183384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75248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080"/>
                <a:gridCol w="1819440"/>
                <a:gridCol w="197208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Copy and complete with the appropriate word from the list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jugadores, gana, marca, el jugador, ca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mpieza el segundo tiempo, los jugadores de futbol vuelven al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equipo ___________ el partido y el otro equipo pie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balón entra en la portería, ___________ mete un gol y _________ un ta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 equipo de futbol hay once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0337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733560" cy="193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24560" y="33336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62120" y="4648320"/>
            <a:ext cx="2743200" cy="1666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38098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819520" y="1295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85440" y="22093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886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89548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9120" y="3276720"/>
            <a:ext cx="8384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5744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21:41:58Z</dcterms:created>
  <dc:creator>Helen Zumaeta</dc:creator>
  <dc:description/>
  <dc:language>en-US</dc:language>
  <cp:lastModifiedBy>Helen Zumaeta</cp:lastModifiedBy>
  <dcterms:modified xsi:type="dcterms:W3CDTF">2012-09-20T15:44:30Z</dcterms:modified>
  <cp:revision>7</cp:revision>
  <dc:subject/>
  <dc:title>Me llamo __________ Clase 7il La fecha es el 20 de septiembre del 2012</dc:title>
</cp:coreProperties>
</file>